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1AE-A9E5-48D2-9B6B-56615DFD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D58-C356-4DA8-8249-ECEBFA61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831-86FE-44FB-9C93-6150E76B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5CB-EC9F-4A91-A65A-93D8E546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014-7F83-44FC-B182-4C74F107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32F1-84FF-4078-8A76-367A297C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D30-4FC8-474F-9F97-1324B9EC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8F45-AF65-43A3-9053-286F5BD2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CA8-06E6-4B2F-ADD3-0B2736A2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DF7-C0D2-4A09-AED5-7391411F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145C-924B-442D-9371-CFAB15A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6AB-D73F-4A8D-B6C1-91D0FCF4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8A9D-4238-41A8-B59F-6BC2479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D36-D8A3-48BF-984D-C3B89545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0EFE-BEB2-4FCB-A198-38E4C96B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68F2-C725-4C06-920A-44E44F0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6FFE-6496-48EC-AA63-BD8923FA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B9B-7016-4F40-877C-A189CB0B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642-2237-4C05-BFAF-BCF1C9FB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384-50E7-452A-8DF3-C1F301C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FF9-054C-48C5-94DA-EECC0B00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DCD-D61D-4D98-9A6E-8666BA3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DC9-8F4C-4164-8E9A-78DA3A2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DEF-10EB-4A29-B47D-C21127E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DB2F-6E90-4F66-98FF-FA6A20E57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AFC-7F6D-4128-AF3B-B71A59D70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ТИМСКИ РАД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 и вештинама за обављање тимских за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али конфликти се решавају сарадњ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се поштују и уважав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ни стилови су различито награ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ажавање индивидуалних потреба је саставни део тимског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6 т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 решавање конфликата у тим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љање већег броја информација и дискусија о основним чињени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ој више алтернатива како би се унапредила деб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једничко усаглашавање циљ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ацивање хумора у процес одл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ржавање равнотеже јаких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бацивање одлука без снажног консенз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ф: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 људи коју повезују зејднични циљеви и интереси и који располажу одређеним вештинама и знањима за остваривање постављених задатака и циљ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личина т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1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Тимови за решавање 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прављачк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ови за подр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2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д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наџерск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3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јект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имови за тоталну сатисфакцију потрош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ови као радне једи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ртуел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прављање тимо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Јасно постављени циљеви и очекивани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авилна селекција чланова 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иверсифик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личитост и комплементарност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лобална интег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окална респон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ско лиде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нтег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рење прог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већеност свим члановима 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гова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Решавање конфли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мали»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велики»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ерење перформанси и награђивање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блем мерења перформанси 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ју не испуњавања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нуси или унапре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ромовисање давања повратне информације и у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акто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ји утичу на ефикасност тимског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4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муникација, кооперација, колаборација и компром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рем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реме које тим проведе зај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стинска партиципациј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тарији руководиоци и остали запослени увек треба да функционишу као 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рактеристи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пешних тим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љеви чланова тима се поклапају са циљевима про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учествују у планирању и контроли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луке се заснивају на консенз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ер тима и чланови пројектују план и извршавају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располажу знањим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3T17:50:31Z</dcterms:modified>
  <cp:revision>182</cp:revision>
  <dc:subject/>
  <dc:title>Soft and Hard Skills Development: A Current Situation in Serbian Companies</dc:title>
</cp:coreProperties>
</file>